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E6E-7461-4DD4-80EE-464D9FDA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363-8B1A-433C-8D6B-A32598AA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6AE-C72D-4A6E-8754-3EEC6486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775-F527-47F5-9162-1270F418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D920-5F16-4E7E-B797-57A7FF24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7DA6-A1A2-428E-81A0-212C0A4D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AD2-CEC9-4725-BD39-CB966CF1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7CA-B313-473B-AD53-29C6115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AE66-5E8F-4FF3-96AA-DC2DCB4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A7C6-3E2B-4B25-A6D6-8EAF9BD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621A-99E2-4E51-8720-1AD206D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B82-5C5A-4B83-897B-AA03A0BF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7A5-DC6A-4E5C-BC1E-7079528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11EC-887E-46CB-BA54-83AEA7B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651D-4490-416B-90E4-D8C1920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ECDD-D72C-4499-B5F6-BD15CABF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F62B-1BD1-4E21-AB61-BEABB6AF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73F5-2695-42C4-BA3B-52D4C84B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C237-616E-41BE-BB5A-CF98EEE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8926-8BCF-4424-AE35-E6BB36C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62C2-B1F0-4AD5-87C8-6D9D2FD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8A37-CFD9-46D5-8D35-EC47B303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F13-AF67-4CD1-96A2-A7D7699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5C28-2D67-444D-BF48-55B9CD8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3C6B-18DF-4E69-ADE0-F5B6D86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BE5E-4D41-4CCA-86D0-222805D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1F98-86F5-45CE-BC90-4ADA7F6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1A02-A46C-44B7-B2C3-77231BC0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AF5A-C829-484B-9CC2-805E113A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21D5-CB76-475B-B5FB-4C6771F1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209-0089-46D1-A4A8-1911DDA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18D-82B5-4959-A5DB-4FBC563C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3ED-FF56-4A40-A7A4-07C6A24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FBA-8BC3-4CC6-91B0-05A8EA1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1E1-AB66-4C05-B551-70032F2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77A-F0C8-42AE-80C7-D0663FD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CB9-E6AD-438F-8203-69FB8DB75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128-0F98-4B2A-8720-4F464BB41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c3e59f"/>
              </a:gs>
              <a:gs pos="100000">
                <a:srgbClr val="d1eb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11"/>
          <p:cNvSpPr/>
          <p:nvPr/>
        </p:nvSpPr>
        <p:spPr>
          <a:xfrm>
            <a:off x="1042920" y="44280"/>
            <a:ext cx="8101080" cy="809640"/>
          </a:xfrm>
          <a:prstGeom prst="roundRect">
            <a:avLst>
              <a:gd name="adj" fmla="val 50000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260360" y="44280"/>
            <a:ext cx="8064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евое 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АВГОРОД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:\admin\Рабочий стол\ФОТО.jpg"/>
          <p:cNvPicPr/>
          <p:nvPr/>
        </p:nvPicPr>
        <p:blipFill>
          <a:blip r:embed="rId4"/>
          <a:stretch/>
        </p:blipFill>
        <p:spPr>
          <a:xfrm>
            <a:off x="-19080" y="-19080"/>
            <a:ext cx="129384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admin\Рабочий стол\проект символики колледжа - копия.png"/>
          <p:cNvPicPr/>
          <p:nvPr/>
        </p:nvPicPr>
        <p:blipFill>
          <a:blip r:embed="rId5"/>
          <a:stretch/>
        </p:blipFill>
        <p:spPr>
          <a:xfrm>
            <a:off x="7920" y="52560"/>
            <a:ext cx="1252440" cy="80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45D-C815-443E-A49B-317B68A7F8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ntrol 4"/>
          <p:cNvSpPr/>
          <p:nvPr/>
        </p:nvSpPr>
        <p:spPr>
          <a:xfrm>
            <a:off x="6429240" y="6508800"/>
            <a:ext cx="2973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Церко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Содержимое 4" descr="mt15.jpg"/>
          <p:cNvPicPr/>
          <p:nvPr/>
        </p:nvPicPr>
        <p:blipFill>
          <a:blip r:embed="rId1"/>
          <a:stretch/>
        </p:blipFill>
        <p:spPr>
          <a:xfrm>
            <a:off x="1187280" y="1628640"/>
            <a:ext cx="7391520" cy="492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Граждан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Содержимое 14" descr="гражданский брак.jpg"/>
          <p:cNvPicPr/>
          <p:nvPr/>
        </p:nvPicPr>
        <p:blipFill>
          <a:blip r:embed="rId1"/>
          <a:srcRect l="13209" t="20126" r="15094" b="14467"/>
          <a:stretch/>
        </p:blipFill>
        <p:spPr>
          <a:xfrm>
            <a:off x="1258920" y="1484280"/>
            <a:ext cx="722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икти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7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952560" y="1900080"/>
            <a:ext cx="2643120" cy="1920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user\Desktop\630303_600.jpg"/>
          <p:cNvPicPr/>
          <p:nvPr/>
        </p:nvPicPr>
        <p:blipFill>
          <a:blip r:embed="rId2"/>
          <a:stretch/>
        </p:blipFill>
        <p:spPr>
          <a:xfrm>
            <a:off x="3419640" y="1900080"/>
            <a:ext cx="5473440" cy="448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user\Desktop\depositphotos_244839032-stock-photo-male-female-hands-passport-money.jpg"/>
          <p:cNvPicPr/>
          <p:nvPr/>
        </p:nvPicPr>
        <p:blipFill>
          <a:blip r:embed="rId3"/>
          <a:stretch/>
        </p:blipFill>
        <p:spPr>
          <a:xfrm>
            <a:off x="826920" y="3841920"/>
            <a:ext cx="32403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пасибо за работу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1" name="Picture 2" descr="C:\Users\user\Desktop\Рисунок2.jpg"/>
          <p:cNvPicPr/>
          <p:nvPr/>
        </p:nvPicPr>
        <p:blipFill>
          <a:blip r:embed="rId1"/>
          <a:stretch/>
        </p:blipFill>
        <p:spPr>
          <a:xfrm>
            <a:off x="1116000" y="148428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6286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семьи дл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ы семей, виды бр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вступления в брак, условия расторжения брака , условия, препятствующие вступлению в б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отношения родителей и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ставьте пропус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773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 – это – основанная на ___И______ (1) и/или кровном родстве малая __З________ (2), члены которой объединены совместным проживанием и ведением домашнего хозяйства, эмоциональной связью, взаимными ____Д_______ (3) по отношению друг к другу. Также семьей называется социальный ____Е______ (4), т.е. устойчивая форма взаимоотношений между людьми, в рамках которого осуществляется основная часть повседневной жизни людей, т.е. сексуальные отношения, деторождение и первичная ___В_________ (5) детей, значительная часть бытового ухода, образовательного и медицинского обслуживания, особенно по отношению к __А_________ (6) и лицам пожилого возраст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из списка слова, которые необходимо вставить на места пропус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дети, Б) брак, В) социализация, Г) коллектив, Д) обязанности, Е) институт, Ж) отношения, З) группа, И) любовь, К) ува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user\Desktop\Screenshot_3.png"/>
          <p:cNvPicPr/>
          <p:nvPr/>
        </p:nvPicPr>
        <p:blipFill>
          <a:blip r:embed="rId1"/>
          <a:stretch/>
        </p:blipFill>
        <p:spPr>
          <a:xfrm>
            <a:off x="384120" y="115920"/>
            <a:ext cx="85089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116000" y="170028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 функциям семьи относ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оспитание законопослушного поведения 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пределение размера коммунальных плате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установление стандартов 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пределение минимального размера оплаты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совместном расходовании семей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ется функция семь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эконом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циально – стату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сихологическая-восстанови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репроду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971640" y="126828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Репродуктивной функцией семьи явля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рождение и содержание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ддержка несовершеннолетних и нетрудоспособных членов семь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накопление и передача собствен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своение норм совместной жизни с другими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уговая (рекреационная) функция семьи проявляется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редоставлении ребенку определенного стат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вместном посещении культурно – массовы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составлении семей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создании благоприятного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16000" y="162864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96000" y="1598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ринципу на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044720" y="278136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га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700360" y="2781360"/>
            <a:ext cx="21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гамия (полиандр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197964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3480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5109120" y="278136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856560" y="275112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 flipH="1">
            <a:off x="60642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743256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5796000" y="4344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главенст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5194080" y="5270400"/>
            <a:ext cx="15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6856560" y="524016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1"/>
          <p:cNvSpPr/>
          <p:nvPr/>
        </p:nvSpPr>
        <p:spPr>
          <a:xfrm flipH="1">
            <a:off x="606420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743256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189080" y="41180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оциальному положению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1312920" y="5259240"/>
            <a:ext cx="11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м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2752560" y="52293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теро-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6"/>
          <p:cNvSpPr/>
          <p:nvPr/>
        </p:nvSpPr>
        <p:spPr>
          <a:xfrm flipH="1">
            <a:off x="196056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332892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29680" y="34765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774160" y="35002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л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85840" y="191628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обоих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176328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298764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227920" y="19368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5219280" y="25653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665964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451640" y="2565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36120" y="3429000"/>
            <a:ext cx="130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57200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де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7548480" y="3500280"/>
            <a:ext cx="12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-д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403280" y="4292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регистрации бр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71640" y="5734080"/>
            <a:ext cx="30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юридическим бра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121280" y="5702400"/>
            <a:ext cx="36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фактическим бра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 flipH="1">
            <a:off x="2410920" y="5157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4067280" y="5157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Юридиче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1" name="Содержимое 7" descr="74875066_3571750_2544.jpg"/>
          <p:cNvPicPr/>
          <p:nvPr/>
        </p:nvPicPr>
        <p:blipFill>
          <a:blip r:embed="rId1"/>
          <a:stretch/>
        </p:blipFill>
        <p:spPr>
          <a:xfrm>
            <a:off x="1332000" y="1773360"/>
            <a:ext cx="7086600" cy="474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43:06Z</dcterms:created>
  <dc:creator>Шиварев Павел Васильевич</dc:creator>
  <dc:description/>
  <dc:language>en-US</dc:language>
  <cp:lastModifiedBy>user</cp:lastModifiedBy>
  <dcterms:modified xsi:type="dcterms:W3CDTF">2021-04-01T15:30:53Z</dcterms:modified>
  <cp:revision>90</cp:revision>
  <dc:subject/>
  <dc:title>Система оценки по предмету  Человек и общество</dc:title>
</cp:coreProperties>
</file>